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4CF-6347-4BE1-A3C5-17FE707C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BEF-E61D-4E94-8350-A6BE7F50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DF8-866C-4A3B-BF0A-041FB0D9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E95-6D34-451C-A716-BB367071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1A78-3843-4A27-8054-854B50DD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88B5-7015-43A1-97E9-DCED4E23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4429-7E1C-4CCD-8FBC-8AC8E0F9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EF4-7AD1-4CC3-AB45-72E8E267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D4FF-DF0F-4BE7-9D40-CB5F87C0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4A27-409C-4EC4-B732-20545A2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E57D-23C7-462D-A1B3-A44C11C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45E-BAB0-4C55-9830-FDEFAB29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25A-9749-4E3E-A56B-827D69ED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47AF-BCB7-4A67-AA04-160DC001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CBD-BE84-4150-9E39-15C96470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A7DE-046F-4CEE-A74D-F1FAC992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DFA4-3061-4E41-839E-9D0925F9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C22-964E-47E4-8A06-4ED41129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57B-6091-40AC-8532-C4A8801E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11F-3E04-4C88-947D-69594F0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E17-A77A-4873-827D-EB12ACFA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9A6-9840-466C-A0E4-0C4FEAC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DC2-67B1-4162-B38F-67B6114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B7F-FED6-4602-9A90-75D53AC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68E5-F94B-428E-9536-FD142161B6DD}" type="slidenum">
              <a:rPr b="0" lang="de-DE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CF0A-C8D9-44C4-9A64-F043FC34EEEA}" type="slidenum"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Entwicklung unserer Firm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Appelmann Naturko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C:\Programme\Gemeinsame Dateien\Microsoft Shared\Clipart\cagcat50\BD08911_.WMF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Unsere Ziele für 200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Steigerung des Gewin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Senkung der Produktionskos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Sicherung der Marktpos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Erweiterung der Produktpalet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Anbau einer Lagerhal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Absatzsteigeru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5249"/>
                </a:solidFill>
                <a:latin typeface="Times New Roman"/>
              </a:rPr>
              <a:t>Positive Fakto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Steigende Nachfrag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Rationalisierung der Produk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Günstigere Bezugsquellen für KBA-Produk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5249"/>
                </a:solidFill>
                <a:latin typeface="Times New Roman"/>
              </a:rPr>
              <a:t>Negative Fakto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Zunehmende Konkurrenz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Mehrausgaben für Werbu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Kosten für den Anba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Raumplanung für den Anba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2101680"/>
          <a:ext cx="7696440" cy="411480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23623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bteilung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Geplante Belegung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ezugstermi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inkauf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 Räu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nfang Jun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roduk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 Räu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itte Apri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Versan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 Räu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nfang Jun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Umsatz im 1. Quart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066680" y="21016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016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Aktueller Personalstan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1076400" y="2787480"/>
          <a:ext cx="77533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787480"/>
                    <a:ext cx="7753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Geplanter Personalstan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78160" y="2787480"/>
          <a:ext cx="51498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2787480"/>
                    <a:ext cx="5149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Maßnahmenbündel 200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971800" y="3048120"/>
            <a:ext cx="3200400" cy="16761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Ziel: Sicherung des Marktantei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15360" y="24685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66360" y="36162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656720" y="4800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2960" y="4800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05040" y="3657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619240" y="2514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1:07:05Z</dcterms:created>
  <dc:creator/>
  <dc:description/>
  <dc:language>en-US</dc:language>
  <cp:lastModifiedBy>Stefan</cp:lastModifiedBy>
  <cp:lastPrinted>2009-04-22T19:24:48Z</cp:lastPrinted>
  <dcterms:modified xsi:type="dcterms:W3CDTF">2008-06-09T08:18:51Z</dcterms:modified>
  <cp:revision>17</cp:revision>
  <dc:subject/>
  <dc:title>Entwicklung unserer Firma</dc:title>
</cp:coreProperties>
</file>